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3DDD-AC04-478D-B377-9D68B17EC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D5E4-0DAE-4768-94DD-3B90C8C80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49E9-BF83-4567-92ED-32EC0D48B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2B69-C80D-409E-8E6B-C0FDB5DB8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1792F-689E-4206-A673-0FA151F81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F2F5-7873-427F-B3BE-B5A4412F84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E8DFB-290B-41C9-B4E2-6C6E81C19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3189B-A20D-4C37-BFAD-7FD9F8C5E1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6F7F-EA68-45C0-9B79-D7922FA8B2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92B7A-618F-4712-AB0C-38587E2A33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AC779-807A-4A17-BA9A-85AF533CAD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0886-D70E-4E27-91FE-92D2A0210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A0A20-6390-4037-8875-A721F97FB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06FCA-61B0-41EA-B962-84166C45C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9E273-20C2-48DE-8198-AB17852920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BEF17-BE95-4221-9589-12FADF7BCA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1D2BE-C5E5-4EFE-909F-9D3F26525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93D9-89CF-4B67-93ED-0067D6EB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46F9-F73E-4F0C-9AD6-1691C65DE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6173-1D59-452C-875A-40DA08045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8B5F-08F4-490C-9C21-C82CB43B6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DD76-0CD7-4752-8ED8-12A62FED6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1FCA-23A4-4090-B81A-F33B5C24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9767-BAFB-4D63-A95F-C7799531B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11889E8-1D97-494D-B99A-6D809A94526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F25463D-3FCE-4126-AF30-0D14CA7C54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58460C8-B304-4913-8671-0E85C75841D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CB5870-8A99-4E30-A411-21A52CD7A61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2-10-04T15:27:11Z</dcterms:modified>
  <cp:revision>294</cp:revision>
  <dc:subject/>
  <dc:title>REGRESSION ANALYSIS</dc:title>
</cp:coreProperties>
</file>